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0DB1-5695-4DF0-AFB9-165EBBF10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4E8B-F805-41B8-8CB9-46FCBD1CF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C839-953E-4C73-8EC3-FF318FA88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FD9A-7BFE-4457-B7BA-4716294E6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90C7-DFBA-457C-AB4B-0CF66DF0BC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9A58-C9D8-4B5B-A725-799C283F65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92A1-2AA9-488E-B1B5-3B4B4E09C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DE7F-FC1A-4001-B081-A45428124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190E-DEA8-49D9-A78C-B94B07A12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0B3C-377F-4609-9AE6-65DA42E110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95C2-34A5-4947-B8BD-A929BB9C1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DFDD-9A52-4AE2-919B-130640463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8B47-09FD-496C-A277-40D4B19536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54DA-8BFC-424B-9833-85380C516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65D2-37B1-4CAF-ACA2-2675D8933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5D70-4D5A-4542-8A39-F565761901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0D61-7F11-4DBA-BE09-3966FBDB4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29BA-8A19-4EC9-A27C-C66C94FF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20D7-7733-4CB9-92D3-C0384C247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BA2C-8B49-4FDA-AF4B-05D69294A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EF0F-3432-4E64-BC90-75EFC0662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CB06-655A-4619-8DA0-B9F594CDA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5F4D-EBEA-4EA5-B975-D76B59352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4C53-3344-4DCF-AD6C-7978DF6D5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610760" y="6458040"/>
            <a:ext cx="14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38480" y="6244920"/>
            <a:ext cx="106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E1CD-B0B3-4766-A761-A0A8CC5D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924320" y="65070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a56b2"/>
                </a:solidFill>
                <a:latin typeface="Arial"/>
              </a:rPr>
              <a:t>www.usa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4190760" y="62449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8E5-5E36-400B-9F6B-9539BBA1F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1371600" y="1676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B0A-2E55-4E51-8B39-916D96DE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ervice delivery extension occurs, your contract may need to be exte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Set contracts for non-recurring services to expire September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must extend the contract AND file a Form 500 to extend the contract expiration date in USAC’s records before an invoice dated after that date can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4C7-4386-429E-B986-052D3BBC3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F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BEAR Forms on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issues a Personal Identification Number (PIN) to the authorized person for the first Form 470, 471, or 486 filed 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IN can be used to certify all online forms, including BEAR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issues BEAR-specific PINs to individuals who only file BEA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R-specific PINs cannot be used to certify online forms other than BEAR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00B-4FEF-4C73-8261-5B4697E5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F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BEAR Forms on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your service provider has online access to approve your BEA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can call 1-888-641-8722 (choose the option for “Form 498” from the menu of options) for assistance if they do not have onlin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may have to revise their Forms 498 before they can get onlin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3B8-BA5C-498D-9A34-A6945D446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follow directions provid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ication letters (samples on USAC web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omplet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it until the last minute to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s should ask service providers what their lead time is for approving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AFB3-8C5B-4D53-9FE9-7D85D78E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 that lead to rejection (especially for paper filer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already disbursed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rm 471 number / no FRN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1 / FRN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1 / SPIN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rm 486 filed / No Form 473 f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irst date of service on multiple lines of recurr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invoices or invo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ED5D-D412-40EB-9388-D9A7AD9CE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ed Entity Number, Form 471 Application Number, and Funding Request Number must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most recent FCDL for this information (including SPIN changes, FRN spli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9375" t="46876" r="50001" b="14845"/>
          <a:stretch/>
        </p:blipFill>
        <p:spPr>
          <a:xfrm>
            <a:off x="3657600" y="2743200"/>
            <a:ext cx="4952880" cy="37339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41253" t="21876" r="18124" b="64065"/>
          <a:stretch/>
        </p:blipFill>
        <p:spPr>
          <a:xfrm>
            <a:off x="3657600" y="1219320"/>
            <a:ext cx="4952880" cy="137160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68F-14B8-48FB-B2B5-1DD843DB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EITHER a Customer Billed Date or a Shipping Date to Customer, not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85800" y="3124080"/>
            <a:ext cx="2438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Billed Date – Recur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ate – Non-recur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34771" t="33434" r="11721" b="11356"/>
          <a:stretch/>
        </p:blipFill>
        <p:spPr>
          <a:xfrm>
            <a:off x="3581280" y="2793960"/>
            <a:ext cx="4496040" cy="335268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C584-CED4-492A-B7EF-7BFDBE07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Billed Date / Shipping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arliest date of service for the period you are billing (not necessarily July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install or deliver discounted non-recurring services before the Adjusted Service Start Date (check your Form 486 Notification L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at the Discount Amount Billed is less than the Total (Undiscounted)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pproved discount perce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8FDE-A296-40A7-9668-CB448AC08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ing Corr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filing, verify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invoice is not a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moved any ineligible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moved any products and services that were not approved on that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still remain on the FRN (you are tracking your pay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filing timely and do not need to first request an invoice deadlin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retain your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760-D5F6-4985-AA71-694B4DDB1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C reviews invoices for compliance with program ru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products and services are featured on the invoice, including approved service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s and services are eligible (even if the products and services were approved for fu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oice features the approved discount percentage for the appl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791-1767-4D17-A38F-6050D403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ing Invoice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ing Correctly the Firs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9B3-693C-4005-A144-3C4B7591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email your reviewer wit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 is provided on requests for information from Invoic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resubmit your invoice instead of filing an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understand from USAC’s communication what was incorrect on your invoice, you can just resubmit the invoice with the correct information or within the correct tim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007-9E1A-4F16-8BBB-EA4C230E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Cert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9376" t="19896" r="49219" b="6991"/>
          <a:stretch/>
        </p:blipFill>
        <p:spPr>
          <a:xfrm>
            <a:off x="380880" y="1295280"/>
            <a:ext cx="4038840" cy="5181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7242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quested for all invoices, more likely for Priority 2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and signed by the applicant to verify delivery, customer payment, or contract terms for up-front or progress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778-7AF3-4896-965B-F3C319A2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Cert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 can submit directly to USAC to avoid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cert is sent to service provider with invoice information (email/fax)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– copy your service provider if you submit directly to U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D47-22D5-4142-B6C6-5601BC4A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A33-4072-491E-B7F7-C486C098D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submit an invoice to US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must make a commitment for the Funding Request Number (F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must file and successfully certify Form 486, Receipt of Service Confirmation Form, for that 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ust file Form 473, Service Provider Annual Certification (SPAC) Form for that funding year and that Service Provider Identification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services must have been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C8B4-C40F-46E1-B36C-DF9B67FE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voic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2, Billed Entity Applicant Reimbursement (BEAR)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pays for services in full and then requests reimbursement from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474, Service Provider Invoice (SPI)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discounts customer (applicant) bills and then requests discount amount from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45DD-BFEF-4E43-BA7F-AD18E73F4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must pay for services in full before submitting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reviews and approves BEAR Form before can be reviewed by U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approves payment to reimburse the discount amount to the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ust remit funds to applicant no later than 20 days after RECEIPT of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8F0-1684-466A-96B0-3FABEB13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ust bill applicant (customer) before submitting S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C reimburses the discount amount to the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 can be submitted electronically, online, or on pa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rocessed invoice sets the invoice mode (BEAR or SPI) for that F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1B37-AEF8-4292-9644-B3AEEB5A4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dead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s must be postmarked or received by USAC no later th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the last date to receive servic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the date of the Form 486 Notification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ever i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can be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B1B9-4439-4176-A7AC-3CAA50C0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livery dead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ring services (no extensions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30 of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recurr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30 following end of funding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tensions are automatic while others must be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or extensions must be postmarked or received by USAC no later than the last day to receiv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038480" y="6245280"/>
            <a:ext cx="1067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83A-D386-4ABE-A7B6-362A079B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lines/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extensions are process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Commitment Decision Letter (FCDL), SPIN Change approval, or service substitution approval notification dated on or after Marc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must be request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unable to complete implementation for reasons beyond thei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unwilling to complete installation because USAC withheld payment on a properly completed invoice for at least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John Noran</cp:lastModifiedBy>
  <dcterms:modified xsi:type="dcterms:W3CDTF">2009-09-17T20:19:17Z</dcterms:modified>
  <cp:revision>804</cp:revision>
  <dc:subject/>
  <dc:title>Slide 1</dc:title>
</cp:coreProperties>
</file>